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EBB89-CC7F-4935-BE74-162A359B8E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C06FE-672C-4186-80D8-ECE3BE09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0E0A1-6602-4AFD-8ED8-22E4D189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04A43-355B-4AA5-B4D9-7DFCDEE274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D1F7B-8580-489D-82C2-AAC03F77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63A62-532C-4CA4-AE67-4675E159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AB999-EF09-483E-8D73-10A80D93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9EDBE-A3FA-42E1-83F1-D0D0C356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16F97-7D80-4851-9456-4CC95D36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8B853-052E-40AA-AA1E-CDF9397E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9C1CC-B7B0-4B59-924B-EFE49958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CD76B-EF5A-4F7E-8AE0-1823D1D0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1BE9DC-A830-4439-8296-7A9F9320E9BC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6-tub-ru.yandex.net/i?id=181994595-22-72" TargetMode="External"/><Relationship Id="rId2" Type="http://schemas.openxmlformats.org/officeDocument/2006/relationships/hyperlink" Target="http://www.fresher.ru/images9/etot-bezumno-realnyj-mir-7/19.jpg" TargetMode="External"/><Relationship Id="rId3" Type="http://schemas.openxmlformats.org/officeDocument/2006/relationships/hyperlink" Target="http://im5-tub-ru.yandex.net/i?id=198189740-15-72" TargetMode="External"/><Relationship Id="rId4" Type="http://schemas.openxmlformats.org/officeDocument/2006/relationships/hyperlink" Target="http://im0-tub-ru.yandex.net/i?id=198174398-09-72&amp;n=21" TargetMode="External"/><Relationship Id="rId5" Type="http://schemas.openxmlformats.org/officeDocument/2006/relationships/hyperlink" Target="http://im2-tub-ru.yandex.net/i?id=77294039-00-72" TargetMode="External"/><Relationship Id="rId6" Type="http://schemas.openxmlformats.org/officeDocument/2006/relationships/hyperlink" Target="http://im7-tub-ru.yandex.net/i?id=368241887-16-72&amp;n=21" TargetMode="External"/><Relationship Id="rId7" Type="http://schemas.openxmlformats.org/officeDocument/2006/relationships/hyperlink" Target="http://www.chtivo.ru/getpic3d/16775388/350/1653033.jpg" TargetMode="External"/><Relationship Id="rId8" Type="http://schemas.openxmlformats.org/officeDocument/2006/relationships/hyperlink" Target="http://im7-tub-ru.yandex.net/i?id=127347545-19-72" TargetMode="External"/><Relationship Id="rId9" Type="http://schemas.openxmlformats.org/officeDocument/2006/relationships/hyperlink" Target="http://yandex.ru/yandsearch?text=WILLIAM++BLAKE+&amp;lr=20192" TargetMode="External"/><Relationship Id="rId10" Type="http://schemas.openxmlformats.org/officeDocument/2006/relationships/hyperlink" Target="http://yandex.ru/yandsearch?text=WILLIAM++BLAKE+&amp;lr=20192" TargetMode="External"/><Relationship Id="rId11" Type="http://schemas.openxmlformats.org/officeDocument/2006/relationships/hyperlink" Target="http://yandex.ru/yandsearch?text=WILLIAM++BLAKE+&amp;lr=20192" TargetMode="External"/><Relationship Id="rId12" Type="http://schemas.openxmlformats.org/officeDocument/2006/relationships/hyperlink" Target="http://yandex.ru/yandsearch?text=WILLIAM++BLAKE+&amp;lr=20192" TargetMode="External"/><Relationship Id="rId13" Type="http://schemas.openxmlformats.org/officeDocument/2006/relationships/hyperlink" Target="http://yandex.ru/yandsearch?text=WILLIAM++BLAKE+&amp;lr=20192" TargetMode="External"/><Relationship Id="rId14" Type="http://schemas.openxmlformats.org/officeDocument/2006/relationships/hyperlink" Target="http://img-fotki.yandex.ru/get/5507/praid-ss.0/0_59b4a_afc9a958_XL" TargetMode="External"/><Relationship Id="rId15" Type="http://schemas.openxmlformats.org/officeDocument/2006/relationships/hyperlink" Target="http://samolit.com/images/ArticleFiles/709/709_rudyardkipling.jpg" TargetMode="External"/><Relationship Id="rId16" Type="http://schemas.openxmlformats.org/officeDocument/2006/relationships/hyperlink" Target="http://www.kazved.ru/Thumbnail.aspx?w=670&amp;img=/uploadimg/178338_30315_biblio.jpg" TargetMode="External"/><Relationship Id="rId17" Type="http://schemas.openxmlformats.org/officeDocument/2006/relationships/hyperlink" Target="http://www.kazved.ru/Thumbnail.aspx?w=670&amp;img=/uploadimg/178338_30315_biblio.jpg" TargetMode="External"/><Relationship Id="rId18" Type="http://schemas.openxmlformats.org/officeDocument/2006/relationships/hyperlink" Target="http://www.kazved.ru/Thumbnail.aspx?w=670&amp;img=/uploadimg/178338_30315_biblio.jpg" TargetMode="External"/><Relationship Id="rId19" Type="http://schemas.openxmlformats.org/officeDocument/2006/relationships/hyperlink" Target="http://im3-tub-ru.yandex.net/i?id=134279567-64-72" TargetMode="External"/><Relationship Id="rId20" Type="http://schemas.openxmlformats.org/officeDocument/2006/relationships/hyperlink" Target="http://im8-tub-ru.yandex.net/i?id=49424426-65-72" TargetMode="External"/><Relationship Id="rId21" Type="http://schemas.openxmlformats.org/officeDocument/2006/relationships/hyperlink" Target="http://yandex.ru/yandsearch?text=William+Wordsworth+&amp;lr=20192" TargetMode="External"/><Relationship Id="rId22" Type="http://schemas.openxmlformats.org/officeDocument/2006/relationships/hyperlink" Target="http://yandex.ru/yandsearch?text=William+Wordsworth+&amp;lr=20192" TargetMode="External"/><Relationship Id="rId23" Type="http://schemas.openxmlformats.org/officeDocument/2006/relationships/hyperlink" Target="http://yandex.ru/yandsearch?text=William+Wordsworth+&amp;lr=20192" TargetMode="External"/><Relationship Id="rId24" Type="http://schemas.openxmlformats.org/officeDocument/2006/relationships/hyperlink" Target="http://yandex.ru/yandsearch?text=William+Wordsworth+&amp;lr=20192" TargetMode="External"/><Relationship Id="rId25" Type="http://schemas.openxmlformats.org/officeDocument/2006/relationships/hyperlink" Target="http://yandex.ru/yandsearch?text=William+Wordsworth+&amp;lr=20192" TargetMode="External"/><Relationship Id="rId26" Type="http://schemas.openxmlformats.org/officeDocument/2006/relationships/hyperlink" Target="http://im4-tub-ru.yandex.net/i?id=393061638-18-72" TargetMode="External"/><Relationship Id="rId27" Type="http://schemas.openxmlformats.org/officeDocument/2006/relationships/hyperlink" Target="http://yandex.ru/yandsearch?text=William+Wordsworth+grave&amp;lr=20192" TargetMode="External"/><Relationship Id="rId28" Type="http://schemas.openxmlformats.org/officeDocument/2006/relationships/hyperlink" Target="http://yandex.ru/yandsearch?text=William+Wordsworth+grave&amp;lr=20192" TargetMode="External"/><Relationship Id="rId29" Type="http://schemas.openxmlformats.org/officeDocument/2006/relationships/hyperlink" Target="http://yandex.ru/yandsearch?text=William+Wordsworth+grave&amp;lr=20192" TargetMode="External"/><Relationship Id="rId30" Type="http://schemas.openxmlformats.org/officeDocument/2006/relationships/hyperlink" Target="http://yandex.ru/yandsearch?text=William+Wordsworth+grave&amp;lr=20192" TargetMode="External"/><Relationship Id="rId31" Type="http://schemas.openxmlformats.org/officeDocument/2006/relationships/hyperlink" Target="http://yandex.ru/yandsearch?text=William+Wordsworth+grave&amp;lr=20192" TargetMode="External"/><Relationship Id="rId32" Type="http://schemas.openxmlformats.org/officeDocument/2006/relationships/hyperlink" Target="http://im5-tub-ru.yandex.net/i?id=53043894-18-72" TargetMode="External"/><Relationship Id="rId3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ns1.dreamworlds.ru/uploads/posts/2010-12/1291749761_13664f3d7bb8.jpg" TargetMode="External"/><Relationship Id="rId2" Type="http://schemas.openxmlformats.org/officeDocument/2006/relationships/hyperlink" Target="http://im2-tub-ru.yandex.net/i?id=392000242-13-72" TargetMode="External"/><Relationship Id="rId3" Type="http://schemas.openxmlformats.org/officeDocument/2006/relationships/hyperlink" Target="http://im4-tub-ru.yandex.net/i?id=147393132-44-72&amp;n=21" TargetMode="External"/><Relationship Id="rId4" Type="http://schemas.openxmlformats.org/officeDocument/2006/relationships/hyperlink" Target="http://im5-tub-ru.yandex.net/i?id=199924277-04-72" TargetMode="External"/><Relationship Id="rId5" Type="http://schemas.openxmlformats.org/officeDocument/2006/relationships/hyperlink" Target="http://yandex.ru/yandsearch?text=Burns+Cottage+in+Alloway%25" TargetMode="External"/><Relationship Id="rId6" Type="http://schemas.openxmlformats.org/officeDocument/2006/relationships/hyperlink" Target="http://yandex.ru/yandsearch?text=Burns+Cottage+in+Alloway%25" TargetMode="External"/><Relationship Id="rId7" Type="http://schemas.openxmlformats.org/officeDocument/2006/relationships/hyperlink" Target="http://yandex.ru/yandsearch?text=Burns+Cottage+in+Alloway%25" TargetMode="External"/><Relationship Id="rId8" Type="http://schemas.openxmlformats.org/officeDocument/2006/relationships/hyperlink" Target="http://yandex.ru/yandsearch?text=Burns+Cottage+in+Alloway%25" TargetMode="External"/><Relationship Id="rId9" Type="http://schemas.openxmlformats.org/officeDocument/2006/relationships/hyperlink" Target="http://yandex.ru/yandsearch?text=Burns+Cottage+in+Alloway%25" TargetMode="External"/><Relationship Id="rId10" Type="http://schemas.openxmlformats.org/officeDocument/2006/relationships/hyperlink" Target="http://wpcontent.answcdn.com/wikipedia/commons/thumb/9/97/Robert_Burns_statue%25" TargetMode="External"/><Relationship Id="rId11" Type="http://schemas.openxmlformats.org/officeDocument/2006/relationships/hyperlink" Target="http://yandex.ru/yandsearch?text=Burns+House+in+Dumfries%25" TargetMode="External"/><Relationship Id="rId12" Type="http://schemas.openxmlformats.org/officeDocument/2006/relationships/hyperlink" Target="http://yandex.ru/yandsearch?text=Burns+House+in+Dumfries%25" TargetMode="External"/><Relationship Id="rId13" Type="http://schemas.openxmlformats.org/officeDocument/2006/relationships/hyperlink" Target="http://yandex.ru/yandsearch?text=Burns+House+in+Dumfries%25" TargetMode="External"/><Relationship Id="rId14" Type="http://schemas.openxmlformats.org/officeDocument/2006/relationships/hyperlink" Target="http://yandex.ru/yandsearch?text=Burns+House+in+Dumfries%25" TargetMode="External"/><Relationship Id="rId15" Type="http://schemas.openxmlformats.org/officeDocument/2006/relationships/hyperlink" Target="http://yandex.ru/yandsearch?text=Burns+House+in+Dumfries%25" TargetMode="External"/><Relationship Id="rId16" Type="http://schemas.openxmlformats.org/officeDocument/2006/relationships/hyperlink" Target="http://yandex.ru/yandsearch?text=Burns&apos;+monument+in+London&amp;lr=20192" TargetMode="External"/><Relationship Id="rId17" Type="http://schemas.openxmlformats.org/officeDocument/2006/relationships/hyperlink" Target="http://yandex.ru/yandsearch?text=Burns&apos;+monument+in+London&amp;lr=20192" TargetMode="External"/><Relationship Id="rId18" Type="http://schemas.openxmlformats.org/officeDocument/2006/relationships/hyperlink" Target="http://yandex.ru/yandsearch?text=Burns&apos;+monument+in+London&amp;lr=20192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8600" y="380880"/>
            <a:ext cx="868680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280" y="1655640"/>
            <a:ext cx="8686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Закончив обучение в Оксфорде, Оскар поселился в Лондоне.  Благодаря своим хлестким высказываниям и манере поведения он стал желанным гостем в любом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алоне: каждый мечтал о встрече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 этим «ирландским остроумцем». 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тремясь к признанию и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вестности, Уайльд согласился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читать лекции об эстетизме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 отправился в турне в Америку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о прибытии на таможню он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бъявил, что ему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«нечего декларировать,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кроме своей гениальности».</a:t>
            </a:r>
            <a:br>
              <a:rPr sz="2600"/>
            </a:br>
            <a:br>
              <a:rPr sz="22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851440" y="1655640"/>
            <a:ext cx="321948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9920" y="1407960"/>
            <a:ext cx="86868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6000" y="360360"/>
            <a:ext cx="4508280" cy="64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ао Цзэдун известен как теоретик марксизма, военный стратег и революционер, ставший основателем Китайской Народной Республи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 1968 году министр иностранных дел Пакистана подарил Мао несколько плодов манго. Мао разослал эти подарки университетам и фабрикам, что сделало плод манго символом уз между трудящимися и их лидер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824360" y="503280"/>
            <a:ext cx="424044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-7128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384720" y="4707000"/>
            <a:ext cx="770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for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Your Atten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바탕"/>
                <a:ea typeface="바탕"/>
              </a:rPr>
              <a:t>Источн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29528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1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"/>
              </a:rPr>
              <a:t>http://im6-tub-ru.yandex.net/i?id=181994595-22-7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книга и пер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2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"/>
              </a:rPr>
              <a:t>http://www.fresher.ru/images9/etot-bezumno-realnyj-mir-7/19.jpg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старинные книги;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3"/>
              </a:rPr>
              <a:t>http://im5-tub-ru.yandex.net/i?id=198189740-15-7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– фот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3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4"/>
              </a:rPr>
              <a:t>http://im0-tub-ru.yandex.net/i?id=198174398-09-72&amp;n=21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4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5"/>
              </a:rPr>
              <a:t>http://im2-tub-ru.yandex.net/i?id=77294039-00-7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;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6"/>
              </a:rPr>
              <a:t>http://im7-tub-ru.yandex.net/i?id=368241887-16-72&amp;n=21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 - фото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7"/>
              </a:rPr>
              <a:t>http://www.chtivo.ru/getpic3d/16775388/350/1653033.jpg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книг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5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8"/>
              </a:rPr>
              <a:t>http://im7-tub-ru.yandex.net/i?id=127347545-19-7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– Байро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6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9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0"/>
              </a:rPr>
              <a:t>yandex.ru/yandsearch?text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1"/>
              </a:rPr>
              <a:t>=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2"/>
              </a:rPr>
              <a:t>WILLIAM++BLAKE+&amp;lr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3"/>
              </a:rPr>
              <a:t>=2019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7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4"/>
              </a:rPr>
              <a:t>http://img-fotki.yandex.ru/get/5507/praid-ss.0/0_59b4a_afc9a958_XL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картинка книги;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5"/>
              </a:rPr>
              <a:t>http://samolit.com/images/ArticleFiles/709/709_rudyardkipling.jpg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фот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8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6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7"/>
              </a:rPr>
              <a:t>www.kazved.ru/Thumbnail.aspx?w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8"/>
              </a:rPr>
              <a:t>=670&amp;img=/uploadimg/178338_30315_biblio.jpg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фон;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9"/>
              </a:rPr>
              <a:t>http://im3-tub-ru.yandex.net/i?id=134279567-64-7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фо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9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0"/>
              </a:rPr>
              <a:t>http://im8-tub-ru.yandex.net/i?id=49424426-65-7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– фон;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2"/>
              </a:rPr>
              <a:t>yandex.ru/yandsearch?text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3"/>
              </a:rPr>
              <a:t>=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4"/>
              </a:rPr>
              <a:t>William+Wordsworth+&amp;lr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5"/>
              </a:rPr>
              <a:t>=2019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– портр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10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6"/>
              </a:rPr>
              <a:t>http://im4-tub-ru.yandex.net/i?id=393061638-18-7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– портрет;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7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8"/>
              </a:rPr>
              <a:t>yandex.ru/yandsearch?text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9"/>
              </a:rPr>
              <a:t>=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30"/>
              </a:rPr>
              <a:t>William+Wordsworth+grave&amp;lr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31"/>
              </a:rPr>
              <a:t>=2019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– плита;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32"/>
              </a:rPr>
              <a:t>http://im5-tub-ru.yandex.net/i?id=53043894-18-7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фон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11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"/>
              </a:rPr>
              <a:t>http://ns1.dreamworlds.ru/uploads/posts/2010-12/1291749761_13664f3d7bb8.jpg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фон;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2"/>
              </a:rPr>
              <a:t>http://im2-tub-ru.yandex.net/i?id=392000242-13-7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– портр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12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3"/>
              </a:rPr>
              <a:t>http://im4-tub-ru.yandex.net/i?id=147393132-44-72&amp;n=21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– портр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13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4"/>
              </a:rPr>
              <a:t>http://im5-tub-ru.yandex.net/i?id=199924277-04-7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– портр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14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5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6"/>
              </a:rPr>
              <a:t>yandex.ru/yandsearch?text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7"/>
              </a:rPr>
              <a:t>=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8"/>
              </a:rPr>
              <a:t>Burns+Cottage+in+Alloway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9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коттедж Бернса;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0"/>
              </a:rPr>
              <a:t>http://wpcontent.answcdn.com/wikipedia/commons/thumb/9/97/Robert_Burns_statue%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стату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Слайд 15 -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2"/>
              </a:rPr>
              <a:t>yandex.ru/yandsearch?text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3"/>
              </a:rPr>
              <a:t>=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4"/>
              </a:rPr>
              <a:t>Burns+House+in+Dumfries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5"/>
              </a:rPr>
              <a:t>%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- дом Бернса;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6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7"/>
              </a:rPr>
              <a:t>yandex.ru/yandsearch?text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Book Antiqua"/>
                <a:hlinkClick r:id="rId18"/>
              </a:rPr>
              <a:t>=Burns%27+monument+in+London&amp;lr=20192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– памятник Бернс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18898" t="3720" r="0" b="8184"/>
          <a:stretch/>
        </p:blipFill>
        <p:spPr>
          <a:xfrm>
            <a:off x="5105520" y="228600"/>
            <a:ext cx="3894120" cy="4295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10902" t="8066" r="9691" b="6914"/>
          <a:stretch/>
        </p:blipFill>
        <p:spPr>
          <a:xfrm>
            <a:off x="152280" y="3505320"/>
            <a:ext cx="2722680" cy="3070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990720"/>
            <a:ext cx="5715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600" spc="-1" strike="noStrike">
                <a:solidFill>
                  <a:srgbClr val="984807"/>
                </a:solidFill>
                <a:latin typeface="Edwardian Script ITC"/>
              </a:rPr>
              <a:t>Literature </a:t>
            </a:r>
            <a:br>
              <a:rPr sz="12600"/>
            </a:br>
            <a:r>
              <a:rPr b="1" lang="en-US" sz="12600" spc="-1" strike="noStrike">
                <a:solidFill>
                  <a:srgbClr val="984807"/>
                </a:solidFill>
                <a:latin typeface="Edwardian Script ITC"/>
              </a:rPr>
              <a:t>Club</a:t>
            </a: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4952880"/>
            <a:ext cx="7162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984807"/>
                </a:solidFill>
                <a:latin typeface="Century"/>
              </a:rPr>
              <a:t>Gymnasium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tch the authors and their works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507920" y="3288240"/>
            <a:ext cx="4129560" cy="1255320"/>
            <a:chOff x="4507920" y="3288240"/>
            <a:chExt cx="4129560" cy="1255320"/>
          </a:xfrm>
        </p:grpSpPr>
        <p:sp>
          <p:nvSpPr>
            <p:cNvPr id="50" name=""/>
            <p:cNvSpPr/>
            <p:nvPr/>
          </p:nvSpPr>
          <p:spPr>
            <a:xfrm>
              <a:off x="5068800" y="3619440"/>
              <a:ext cx="356868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419800" y="3649680"/>
              <a:ext cx="283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Winnie-the-Pooh”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4507920" y="3288240"/>
              <a:ext cx="1251720" cy="1255320"/>
              <a:chOff x="4507920" y="3288240"/>
              <a:chExt cx="1251720" cy="1255320"/>
            </a:xfrm>
          </p:grpSpPr>
          <p:sp>
            <p:nvSpPr>
              <p:cNvPr id="53" name=""/>
              <p:cNvSpPr/>
              <p:nvPr/>
            </p:nvSpPr>
            <p:spPr>
              <a:xfrm rot="1740000">
                <a:off x="4695840" y="3483360"/>
                <a:ext cx="902520" cy="897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740000">
                <a:off x="4668840" y="3450960"/>
                <a:ext cx="904320" cy="897480"/>
              </a:xfrm>
              <a:prstGeom prst="ellipse">
                <a:avLst/>
              </a:prstGeom>
              <a:gradFill rotWithShape="0">
                <a:gsLst>
                  <a:gs pos="0">
                    <a:srgbClr val="a67a32"/>
                  </a:gs>
                  <a:gs pos="100000">
                    <a:srgbClr val="4d38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753440" y="3503160"/>
                <a:ext cx="419400" cy="522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907880" y="36021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-99360" y="772560"/>
            <a:ext cx="4056840" cy="1245600"/>
            <a:chOff x="-99360" y="772560"/>
            <a:chExt cx="4056840" cy="1245600"/>
          </a:xfrm>
        </p:grpSpPr>
        <p:sp>
          <p:nvSpPr>
            <p:cNvPr id="58" name=""/>
            <p:cNvSpPr/>
            <p:nvPr/>
          </p:nvSpPr>
          <p:spPr>
            <a:xfrm>
              <a:off x="455760" y="1098720"/>
              <a:ext cx="3501720" cy="545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74a7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98480" y="1128600"/>
              <a:ext cx="27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iplin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-99360" y="772560"/>
              <a:ext cx="1238040" cy="1245600"/>
              <a:chOff x="-99360" y="772560"/>
              <a:chExt cx="1238040" cy="1245600"/>
            </a:xfrm>
          </p:grpSpPr>
          <p:sp>
            <p:nvSpPr>
              <p:cNvPr id="61" name=""/>
              <p:cNvSpPr/>
              <p:nvPr/>
            </p:nvSpPr>
            <p:spPr>
              <a:xfrm rot="1740000">
                <a:off x="83160" y="965520"/>
                <a:ext cx="895320" cy="89136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2f00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740000">
                <a:off x="60120" y="933480"/>
                <a:ext cx="895320" cy="891360"/>
              </a:xfrm>
              <a:prstGeom prst="ellipse">
                <a:avLst/>
              </a:prstGeom>
              <a:gradFill rotWithShape="0">
                <a:gsLst>
                  <a:gs pos="0">
                    <a:srgbClr val="74a731"/>
                  </a:gs>
                  <a:gs pos="100000">
                    <a:srgbClr val="364d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41480" y="984240"/>
                <a:ext cx="414360" cy="519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" name=""/>
            <p:cNvSpPr/>
            <p:nvPr/>
          </p:nvSpPr>
          <p:spPr>
            <a:xfrm>
              <a:off x="326160" y="10810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507560" y="1627560"/>
            <a:ext cx="4164480" cy="1262160"/>
            <a:chOff x="4507560" y="1627560"/>
            <a:chExt cx="4164480" cy="1262160"/>
          </a:xfrm>
        </p:grpSpPr>
        <p:sp>
          <p:nvSpPr>
            <p:cNvPr id="66" name=""/>
            <p:cNvSpPr/>
            <p:nvPr/>
          </p:nvSpPr>
          <p:spPr>
            <a:xfrm>
              <a:off x="5071680" y="1962000"/>
              <a:ext cx="360036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24120" y="1992240"/>
              <a:ext cx="286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herlock Holmes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”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07560" y="1627560"/>
              <a:ext cx="1257480" cy="1262160"/>
              <a:chOff x="4507560" y="1627560"/>
              <a:chExt cx="1257480" cy="1262160"/>
            </a:xfrm>
          </p:grpSpPr>
          <p:sp>
            <p:nvSpPr>
              <p:cNvPr id="69" name=""/>
              <p:cNvSpPr/>
              <p:nvPr/>
            </p:nvSpPr>
            <p:spPr>
              <a:xfrm rot="1740000">
                <a:off x="4691880" y="1824840"/>
                <a:ext cx="911880" cy="900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1740000">
                <a:off x="4668480" y="1792080"/>
                <a:ext cx="912600" cy="900360"/>
              </a:xfrm>
              <a:prstGeom prst="ellipse">
                <a:avLst/>
              </a:prstGeom>
              <a:gradFill rotWithShape="0">
                <a:gsLst>
                  <a:gs pos="0">
                    <a:srgbClr val="a67a32"/>
                  </a:gs>
                  <a:gs pos="100000">
                    <a:srgbClr val="4d38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751640" y="1843920"/>
                <a:ext cx="423360" cy="524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2" name=""/>
            <p:cNvSpPr/>
            <p:nvPr/>
          </p:nvSpPr>
          <p:spPr>
            <a:xfrm>
              <a:off x="4910400" y="1944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507920" y="716040"/>
            <a:ext cx="3845160" cy="1212480"/>
            <a:chOff x="4507920" y="716040"/>
            <a:chExt cx="3845160" cy="1212480"/>
          </a:xfrm>
        </p:grpSpPr>
        <p:sp>
          <p:nvSpPr>
            <p:cNvPr id="74" name=""/>
            <p:cNvSpPr/>
            <p:nvPr/>
          </p:nvSpPr>
          <p:spPr>
            <a:xfrm>
              <a:off x="5048280" y="1027080"/>
              <a:ext cx="330480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72280" y="1057320"/>
              <a:ext cx="262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White Fang”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4507920" y="716040"/>
              <a:ext cx="1200600" cy="1212480"/>
              <a:chOff x="4507920" y="716040"/>
              <a:chExt cx="1200600" cy="1212480"/>
            </a:xfrm>
          </p:grpSpPr>
          <p:sp>
            <p:nvSpPr>
              <p:cNvPr id="77" name=""/>
              <p:cNvSpPr/>
              <p:nvPr/>
            </p:nvSpPr>
            <p:spPr>
              <a:xfrm rot="1740000">
                <a:off x="4689720" y="901080"/>
                <a:ext cx="861120" cy="8730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740000">
                <a:off x="4665600" y="869760"/>
                <a:ext cx="861120" cy="873000"/>
              </a:xfrm>
              <a:prstGeom prst="ellipse">
                <a:avLst/>
              </a:prstGeom>
              <a:gradFill rotWithShape="0">
                <a:gsLst>
                  <a:gs pos="0">
                    <a:srgbClr val="a67a32"/>
                  </a:gs>
                  <a:gs pos="100000">
                    <a:srgbClr val="4d38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744440" y="922320"/>
                <a:ext cx="398520" cy="507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" name=""/>
            <p:cNvSpPr/>
            <p:nvPr/>
          </p:nvSpPr>
          <p:spPr>
            <a:xfrm>
              <a:off x="4882320" y="10098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508640" y="5068800"/>
            <a:ext cx="4383000" cy="1294560"/>
            <a:chOff x="4508640" y="5068800"/>
            <a:chExt cx="4383000" cy="1294560"/>
          </a:xfrm>
        </p:grpSpPr>
        <p:sp>
          <p:nvSpPr>
            <p:cNvPr id="82" name=""/>
            <p:cNvSpPr/>
            <p:nvPr/>
          </p:nvSpPr>
          <p:spPr>
            <a:xfrm>
              <a:off x="5087880" y="5419800"/>
              <a:ext cx="380376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60840" y="5450040"/>
              <a:ext cx="30258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Alice in Wonderland”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4508640" y="5068800"/>
              <a:ext cx="1296360" cy="1294560"/>
              <a:chOff x="4508640" y="5068800"/>
              <a:chExt cx="1296360" cy="1294560"/>
            </a:xfrm>
          </p:grpSpPr>
          <p:sp>
            <p:nvSpPr>
              <p:cNvPr id="85" name=""/>
              <p:cNvSpPr/>
              <p:nvPr/>
            </p:nvSpPr>
            <p:spPr>
              <a:xfrm rot="1740000">
                <a:off x="4696560" y="5272920"/>
                <a:ext cx="944640" cy="9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40000">
                <a:off x="4671720" y="5240160"/>
                <a:ext cx="944640" cy="918720"/>
              </a:xfrm>
              <a:prstGeom prst="ellipse">
                <a:avLst/>
              </a:prstGeom>
              <a:gradFill rotWithShape="0">
                <a:gsLst>
                  <a:gs pos="0">
                    <a:srgbClr val="a67a32"/>
                  </a:gs>
                  <a:gs pos="100000">
                    <a:srgbClr val="4d38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757400" y="5293080"/>
                <a:ext cx="437760" cy="534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" name=""/>
            <p:cNvSpPr/>
            <p:nvPr/>
          </p:nvSpPr>
          <p:spPr>
            <a:xfrm>
              <a:off x="4952160" y="54021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579200" y="2482200"/>
            <a:ext cx="4310280" cy="1283760"/>
            <a:chOff x="4579200" y="2482200"/>
            <a:chExt cx="4310280" cy="1283760"/>
          </a:xfrm>
        </p:grpSpPr>
        <p:sp>
          <p:nvSpPr>
            <p:cNvPr id="90" name=""/>
            <p:cNvSpPr/>
            <p:nvPr/>
          </p:nvSpPr>
          <p:spPr>
            <a:xfrm>
              <a:off x="5153040" y="2827440"/>
              <a:ext cx="373644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19880" y="2857680"/>
              <a:ext cx="297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ikki –Tikki -Tavi”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4579200" y="2482200"/>
              <a:ext cx="1283760" cy="1283760"/>
              <a:chOff x="4579200" y="2482200"/>
              <a:chExt cx="1283760" cy="1283760"/>
            </a:xfrm>
          </p:grpSpPr>
          <p:sp>
            <p:nvSpPr>
              <p:cNvPr id="93" name=""/>
              <p:cNvSpPr/>
              <p:nvPr/>
            </p:nvSpPr>
            <p:spPr>
              <a:xfrm rot="1740000">
                <a:off x="4766760" y="2683800"/>
                <a:ext cx="933120" cy="91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740000">
                <a:off x="4741560" y="2651040"/>
                <a:ext cx="933120" cy="912960"/>
              </a:xfrm>
              <a:prstGeom prst="ellipse">
                <a:avLst/>
              </a:prstGeom>
              <a:gradFill rotWithShape="0">
                <a:gsLst>
                  <a:gs pos="0">
                    <a:srgbClr val="a67a32"/>
                  </a:gs>
                  <a:gs pos="100000">
                    <a:srgbClr val="4d38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827960" y="2703600"/>
                <a:ext cx="431640" cy="53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" name=""/>
            <p:cNvSpPr/>
            <p:nvPr/>
          </p:nvSpPr>
          <p:spPr>
            <a:xfrm>
              <a:off x="4996800" y="28098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-101520" y="3406320"/>
            <a:ext cx="4454280" cy="1304640"/>
            <a:chOff x="-101520" y="3406320"/>
            <a:chExt cx="4454280" cy="1304640"/>
          </a:xfrm>
        </p:grpSpPr>
        <p:sp>
          <p:nvSpPr>
            <p:cNvPr id="98" name=""/>
            <p:cNvSpPr/>
            <p:nvPr/>
          </p:nvSpPr>
          <p:spPr>
            <a:xfrm>
              <a:off x="484200" y="3762360"/>
              <a:ext cx="386856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74a7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3640" y="3792600"/>
              <a:ext cx="307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Arthur Conan Doyle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-101520" y="3406320"/>
              <a:ext cx="1310400" cy="1304640"/>
              <a:chOff x="-101520" y="3406320"/>
              <a:chExt cx="1310400" cy="1304640"/>
            </a:xfrm>
          </p:grpSpPr>
          <p:sp>
            <p:nvSpPr>
              <p:cNvPr id="101" name=""/>
              <p:cNvSpPr/>
              <p:nvPr/>
            </p:nvSpPr>
            <p:spPr>
              <a:xfrm rot="1740000">
                <a:off x="90000" y="3610800"/>
                <a:ext cx="953640" cy="92700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2f00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740000">
                <a:off x="63360" y="3579840"/>
                <a:ext cx="956160" cy="927360"/>
              </a:xfrm>
              <a:prstGeom prst="ellipse">
                <a:avLst/>
              </a:prstGeom>
              <a:gradFill rotWithShape="0">
                <a:gsLst>
                  <a:gs pos="0">
                    <a:srgbClr val="74a731"/>
                  </a:gs>
                  <a:gs pos="100000">
                    <a:srgbClr val="364d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52640" y="3633120"/>
                <a:ext cx="443880" cy="539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" name=""/>
            <p:cNvSpPr/>
            <p:nvPr/>
          </p:nvSpPr>
          <p:spPr>
            <a:xfrm>
              <a:off x="362880" y="37450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-28080" y="4299480"/>
            <a:ext cx="4057200" cy="1245960"/>
            <a:chOff x="-28080" y="4299480"/>
            <a:chExt cx="4057200" cy="1245960"/>
          </a:xfrm>
        </p:grpSpPr>
        <p:sp>
          <p:nvSpPr>
            <p:cNvPr id="106" name=""/>
            <p:cNvSpPr/>
            <p:nvPr/>
          </p:nvSpPr>
          <p:spPr>
            <a:xfrm>
              <a:off x="527040" y="4627440"/>
              <a:ext cx="350208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74a7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70120" y="4657680"/>
              <a:ext cx="27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A.A.Mil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-28080" y="4299480"/>
              <a:ext cx="1237320" cy="1245960"/>
              <a:chOff x="-28080" y="4299480"/>
              <a:chExt cx="1237320" cy="1245960"/>
            </a:xfrm>
          </p:grpSpPr>
          <p:sp>
            <p:nvSpPr>
              <p:cNvPr id="109" name=""/>
              <p:cNvSpPr/>
              <p:nvPr/>
            </p:nvSpPr>
            <p:spPr>
              <a:xfrm rot="1740000">
                <a:off x="155160" y="4492800"/>
                <a:ext cx="893520" cy="8917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2f00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740000">
                <a:off x="131400" y="4460760"/>
                <a:ext cx="896040" cy="891360"/>
              </a:xfrm>
              <a:prstGeom prst="ellipse">
                <a:avLst/>
              </a:prstGeom>
              <a:gradFill rotWithShape="0">
                <a:gsLst>
                  <a:gs pos="0">
                    <a:srgbClr val="74a731"/>
                  </a:gs>
                  <a:gs pos="100000">
                    <a:srgbClr val="364d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3480" y="4514040"/>
                <a:ext cx="414360" cy="518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" name=""/>
            <p:cNvSpPr/>
            <p:nvPr/>
          </p:nvSpPr>
          <p:spPr>
            <a:xfrm>
              <a:off x="397800" y="4610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-28080" y="1707120"/>
            <a:ext cx="4057200" cy="1245960"/>
            <a:chOff x="-28080" y="1707120"/>
            <a:chExt cx="4057200" cy="1245960"/>
          </a:xfrm>
        </p:grpSpPr>
        <p:sp>
          <p:nvSpPr>
            <p:cNvPr id="114" name=""/>
            <p:cNvSpPr/>
            <p:nvPr/>
          </p:nvSpPr>
          <p:spPr>
            <a:xfrm>
              <a:off x="527040" y="2035080"/>
              <a:ext cx="350208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74a7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70120" y="2065320"/>
              <a:ext cx="27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fo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-28080" y="1707120"/>
              <a:ext cx="1237320" cy="1245960"/>
              <a:chOff x="-28080" y="1707120"/>
              <a:chExt cx="1237320" cy="1245960"/>
            </a:xfrm>
          </p:grpSpPr>
          <p:sp>
            <p:nvSpPr>
              <p:cNvPr id="117" name=""/>
              <p:cNvSpPr/>
              <p:nvPr/>
            </p:nvSpPr>
            <p:spPr>
              <a:xfrm rot="1740000">
                <a:off x="155160" y="1900440"/>
                <a:ext cx="893520" cy="8917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2f00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740000">
                <a:off x="131400" y="1868400"/>
                <a:ext cx="896040" cy="891360"/>
              </a:xfrm>
              <a:prstGeom prst="ellipse">
                <a:avLst/>
              </a:prstGeom>
              <a:gradFill rotWithShape="0">
                <a:gsLst>
                  <a:gs pos="0">
                    <a:srgbClr val="74a731"/>
                  </a:gs>
                  <a:gs pos="100000">
                    <a:srgbClr val="364d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13480" y="1921680"/>
                <a:ext cx="414360" cy="518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0" name=""/>
            <p:cNvSpPr/>
            <p:nvPr/>
          </p:nvSpPr>
          <p:spPr>
            <a:xfrm>
              <a:off x="397800" y="20178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-28080" y="5163120"/>
            <a:ext cx="4057200" cy="1245960"/>
            <a:chOff x="-28080" y="5163120"/>
            <a:chExt cx="4057200" cy="1245960"/>
          </a:xfrm>
        </p:grpSpPr>
        <p:sp>
          <p:nvSpPr>
            <p:cNvPr id="122" name=""/>
            <p:cNvSpPr/>
            <p:nvPr/>
          </p:nvSpPr>
          <p:spPr>
            <a:xfrm>
              <a:off x="527040" y="5491080"/>
              <a:ext cx="350208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74a7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70120" y="5521320"/>
              <a:ext cx="27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.Carro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-28080" y="5163120"/>
              <a:ext cx="1237320" cy="1245960"/>
              <a:chOff x="-28080" y="5163120"/>
              <a:chExt cx="1237320" cy="1245960"/>
            </a:xfrm>
          </p:grpSpPr>
          <p:sp>
            <p:nvSpPr>
              <p:cNvPr id="125" name=""/>
              <p:cNvSpPr/>
              <p:nvPr/>
            </p:nvSpPr>
            <p:spPr>
              <a:xfrm rot="1740000">
                <a:off x="155160" y="5356440"/>
                <a:ext cx="893520" cy="8917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2f00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40000">
                <a:off x="131400" y="5324400"/>
                <a:ext cx="896040" cy="891360"/>
              </a:xfrm>
              <a:prstGeom prst="ellipse">
                <a:avLst/>
              </a:prstGeom>
              <a:gradFill rotWithShape="0">
                <a:gsLst>
                  <a:gs pos="0">
                    <a:srgbClr val="74a731"/>
                  </a:gs>
                  <a:gs pos="100000">
                    <a:srgbClr val="364d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3480" y="5377680"/>
                <a:ext cx="414360" cy="518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8" name=""/>
            <p:cNvSpPr/>
            <p:nvPr/>
          </p:nvSpPr>
          <p:spPr>
            <a:xfrm>
              <a:off x="397800" y="54738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-28440" y="2500920"/>
            <a:ext cx="4057560" cy="1245240"/>
            <a:chOff x="-28440" y="2500920"/>
            <a:chExt cx="4057560" cy="1245240"/>
          </a:xfrm>
        </p:grpSpPr>
        <p:sp>
          <p:nvSpPr>
            <p:cNvPr id="130" name=""/>
            <p:cNvSpPr/>
            <p:nvPr/>
          </p:nvSpPr>
          <p:spPr>
            <a:xfrm>
              <a:off x="527040" y="2827440"/>
              <a:ext cx="350208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74a7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70120" y="2857680"/>
              <a:ext cx="27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Jack London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-28440" y="2500920"/>
              <a:ext cx="1238040" cy="1245240"/>
              <a:chOff x="-28440" y="2500920"/>
              <a:chExt cx="1238040" cy="1245240"/>
            </a:xfrm>
          </p:grpSpPr>
          <p:sp>
            <p:nvSpPr>
              <p:cNvPr id="133" name=""/>
              <p:cNvSpPr/>
              <p:nvPr/>
            </p:nvSpPr>
            <p:spPr>
              <a:xfrm rot="1740000">
                <a:off x="155160" y="2692080"/>
                <a:ext cx="893520" cy="8935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2f00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740000">
                <a:off x="131760" y="2661840"/>
                <a:ext cx="896040" cy="893520"/>
              </a:xfrm>
              <a:prstGeom prst="ellipse">
                <a:avLst/>
              </a:prstGeom>
              <a:gradFill rotWithShape="0">
                <a:gsLst>
                  <a:gs pos="0">
                    <a:srgbClr val="74a731"/>
                  </a:gs>
                  <a:gs pos="100000">
                    <a:srgbClr val="364d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13480" y="2713680"/>
                <a:ext cx="414360" cy="51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" name=""/>
            <p:cNvSpPr/>
            <p:nvPr/>
          </p:nvSpPr>
          <p:spPr>
            <a:xfrm>
              <a:off x="397800" y="28098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579920" y="4214880"/>
            <a:ext cx="4238280" cy="1272240"/>
            <a:chOff x="4579920" y="4214880"/>
            <a:chExt cx="4238280" cy="1272240"/>
          </a:xfrm>
        </p:grpSpPr>
        <p:sp>
          <p:nvSpPr>
            <p:cNvPr id="138" name=""/>
            <p:cNvSpPr/>
            <p:nvPr/>
          </p:nvSpPr>
          <p:spPr>
            <a:xfrm>
              <a:off x="5148360" y="4554360"/>
              <a:ext cx="3669840" cy="546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5d5"/>
                </a:gs>
                <a:gs pos="100000">
                  <a:srgbClr val="f5eeb7"/>
                </a:gs>
              </a:gsLst>
              <a:lin ang="0"/>
            </a:gradFill>
            <a:ln cap="sq" w="38160">
              <a:solidFill>
                <a:srgbClr val="c5a6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08720" y="4584600"/>
              <a:ext cx="291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Robinson Crusoe”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579920" y="4214880"/>
              <a:ext cx="1271160" cy="1272240"/>
              <a:chOff x="4579920" y="4214880"/>
              <a:chExt cx="1271160" cy="1272240"/>
            </a:xfrm>
          </p:grpSpPr>
          <p:sp>
            <p:nvSpPr>
              <p:cNvPr id="141" name=""/>
              <p:cNvSpPr/>
              <p:nvPr/>
            </p:nvSpPr>
            <p:spPr>
              <a:xfrm rot="1740000">
                <a:off x="4766760" y="4413960"/>
                <a:ext cx="922320" cy="906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740000">
                <a:off x="4741920" y="4381200"/>
                <a:ext cx="921960" cy="906480"/>
              </a:xfrm>
              <a:prstGeom prst="ellipse">
                <a:avLst/>
              </a:prstGeom>
              <a:gradFill rotWithShape="0">
                <a:gsLst>
                  <a:gs pos="0">
                    <a:srgbClr val="a67a32"/>
                  </a:gs>
                  <a:gs pos="100000">
                    <a:srgbClr val="4d3817"/>
                  </a:gs>
                </a:gsLst>
                <a:lin ang="7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25800" y="4433400"/>
                <a:ext cx="426240" cy="527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4" name=""/>
            <p:cNvSpPr/>
            <p:nvPr/>
          </p:nvSpPr>
          <p:spPr>
            <a:xfrm>
              <a:off x="5000040" y="45370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 -7 L 4.44444 -6 L 0.00017 -0.25996 E">
                                      <p:cBhvr>
                                        <p:cTn id="2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51 0.00255 L 0.04323 0.7294 E">
                                      <p:cBhvr>
                                        <p:cTn id="2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 -6 L 2.59259 -6 L -0.00382 -0.38588 E">
                                      <p:cBhvr>
                                        <p:cTn id="30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-0.00787 L 0.01598 0.37268 E">
                                      <p:cBhvr>
                                        <p:cTn id="32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51 0.00255 L 0.03542 0.26759 E">
                                      <p:cBhvr>
                                        <p:cTn id="3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-0.00787 L 0.00018 0.23634 E">
                                      <p:cBhvr>
                                        <p:cTn id="4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0.00533 L 0.00416 0.12315 E">
                                      <p:cBhvr>
                                        <p:cTn id="4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149880" y="3851280"/>
            <a:ext cx="2921040" cy="2916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90360" y="144360"/>
            <a:ext cx="2646360" cy="2952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2809800" y="144360"/>
            <a:ext cx="3094200" cy="3762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5978520" y="125280"/>
            <a:ext cx="3092400" cy="3618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71280" y="3240000"/>
            <a:ext cx="3816360" cy="3527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3095640" y="3240000"/>
            <a:ext cx="3095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360" y="1584360"/>
            <a:ext cx="86234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тихотворение «Прощание»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еллы Ахмадуллиной было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ложено на музыку, именно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аконо прозвучало в фильме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Эльдара Рязанова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«Жестокий романс»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ворческий талант Беллы Ахмадуллиной проявлялся не только в поэзии, но и в кинематографе. Она снялась в роли журналистки в фильме  Василия Шукшина «Живёт такой парень» и написала сценарии к другим кинокартинам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472000" y="216000"/>
            <a:ext cx="34671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8600" y="380880"/>
            <a:ext cx="868680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616720" y="2303640"/>
            <a:ext cx="3456000" cy="4464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1280" y="1655640"/>
            <a:ext cx="8686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1962 году по просьбе президента США Дж. Кеннеди Фрост посетил СССР в качестве «посла доброй воли» и был тепло принят в Союзе писателей СССР. На вопрос журналиста, не находит ли он затруднительным общаться с советскими людьми, не зная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усского языка, ответил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«Но ведь мы смеёмся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а одном языке!»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оберт Фрост был номинирован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а Нобелевскую премию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области литературы 31 раз!</a:t>
            </a:r>
            <a:br>
              <a:rPr sz="22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69920" y="1407960"/>
            <a:ext cx="86868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алант художника у Гюго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роявился даже раньше,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чем его литературные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пособности, он начал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исовать в возрасте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 лет. Большинство его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абросков выполнено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карандашом и тушью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а сегодняшний день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частных и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государственных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коллекциях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асчитывается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коло 4000 графических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абот Виктора Гюго.</a:t>
            </a:r>
            <a:br>
              <a:rPr sz="22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678200" y="576360"/>
            <a:ext cx="417672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400720" y="576360"/>
            <a:ext cx="3600360" cy="5543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44360" y="1278000"/>
            <a:ext cx="8675640" cy="44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Гёте был гениальны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человеком,способны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владеть любы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знаниями или умениям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н говорил на 5 языках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знал ботанику, анатомию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литику и философи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роме того, он бы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еликолепным танцоро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 питал стра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 античной литератур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1:43:47Z</dcterms:created>
  <dc:creator>Елена</dc:creator>
  <dc:description/>
  <dc:language>en-US</dc:language>
  <cp:lastModifiedBy/>
  <dcterms:modified xsi:type="dcterms:W3CDTF">2023-11-29T06:52:46Z</dcterms:modified>
  <cp:revision>72</cp:revision>
  <dc:subject/>
  <dc:title>КОНКУРС ЧТЕЦОВ АНГЛИЙСКОЙ ПОЭЗИИ</dc:title>
</cp:coreProperties>
</file>